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BB0-97F9-4FAF-8937-9C4B0927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57C-1C08-4ECD-B73C-1A095B92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E30-CDBE-4BC9-9A1D-89CDE431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EC60-61B2-497B-9804-B298309B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E7C-5DBD-45E5-A9D3-46A7A215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B4E-4DC0-408A-A63D-7993DEAA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960-0379-40DA-A89A-ADDD5281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28AF-C355-48A7-A683-F69D9D95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B0A-C9BA-4C4C-B119-E10BDB6E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949-7873-442E-BBBE-DC86CE38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B17-609D-4BF9-99E3-DFABC030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47E-1AA5-4535-B07E-9492496F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EE4E-B909-4A65-BB37-10FC7EEDA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 Clase 6NM (602)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17 de abril del 20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9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te da el med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6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s 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¿Qué te duele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¿Qué ti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¡Que te mejores pron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ictures 022"/>
          <p:cNvPicPr/>
          <p:nvPr/>
        </p:nvPicPr>
        <p:blipFill>
          <a:blip r:embed="rId1"/>
          <a:stretch/>
        </p:blipFill>
        <p:spPr>
          <a:xfrm>
            <a:off x="609480" y="2057400"/>
            <a:ext cx="1981440" cy="1541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ictures 021"/>
          <p:cNvPicPr/>
          <p:nvPr/>
        </p:nvPicPr>
        <p:blipFill>
          <a:blip r:embed="rId2"/>
          <a:stretch/>
        </p:blipFill>
        <p:spPr>
          <a:xfrm>
            <a:off x="3429000" y="2133720"/>
            <a:ext cx="1990800" cy="1469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6477120" y="2057400"/>
            <a:ext cx="2057400" cy="2219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131760" y="3657600"/>
            <a:ext cx="29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Me duele el d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83840" y="4129200"/>
            <a:ext cx="218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Tengo do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de d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203280" y="3657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Me duele el 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432240" y="4114800"/>
            <a:ext cx="20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Tengo d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de 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5793840" y="426708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Me duele el 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5413320" y="47242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Tengo dolor de 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031000" y="5486400"/>
            <a:ext cx="28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el better so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5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5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26 y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01:26:24Z</dcterms:created>
  <dc:creator>Helen Zumaeta</dc:creator>
  <dc:description/>
  <dc:language>en-US</dc:language>
  <cp:lastModifiedBy>Helen Zumaeta</cp:lastModifiedBy>
  <dcterms:modified xsi:type="dcterms:W3CDTF">2013-04-17T16:23:59Z</dcterms:modified>
  <cp:revision>4</cp:revision>
  <dc:subject/>
  <dc:title>Me llamo _______ Clase 7 IM La fecha es el 6 de mayo del 2011</dc:title>
</cp:coreProperties>
</file>